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833-DF0D-4F2A-9875-E2DDAA63B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1F8-0D2F-4366-ADE8-FBA13685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3DB-B146-49EF-B015-C0E6802A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47E-6B17-4C90-9A4F-1EEF0E4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B3D-33D5-491B-B691-0B536D6F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29B-69D5-4D5C-A639-B90775A9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A92-09D7-411D-8A9A-CA8EEFC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651-25E4-47DC-AE4F-CABB5CC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03F-7648-4676-96A7-5D4203F4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4BB-7071-4C0A-A554-65BD1D6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E4C-2135-46C4-A4D3-45499B2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757-35B4-47F4-BE4B-19551FF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628-D3ED-4878-966D-A0DFA51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2C5-D5FE-4F86-8EBF-63EBDFE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18AD-370A-4113-BF99-42C9D4694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7_10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7_15"/>
          <p:cNvPicPr/>
          <p:nvPr/>
        </p:nvPicPr>
        <p:blipFill>
          <a:blip r:embed="rId1"/>
          <a:stretch/>
        </p:blipFill>
        <p:spPr>
          <a:xfrm>
            <a:off x="2362320" y="60948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conom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7_01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7_02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2:34Z</dcterms:modified>
  <cp:revision>84</cp:revision>
  <dc:subject/>
  <dc:title>CRS Chapter 4</dc:title>
</cp:coreProperties>
</file>